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1E2-0D7F-4DD6-9596-A7216651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B41-B122-4F40-82E8-59003036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4D85-1835-44FA-AC80-E716F4C6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B6C9D-09A6-4CC5-B757-58AC888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1275E-EC23-474E-84E4-D24E1E6F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3791D-4DBA-47C1-85F0-5962F6C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C5B9E-EFAC-4B79-892F-4B90F79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EAB39-5B8A-4D6A-A594-BDEF049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C46A9-19A1-41A6-BA7E-AD1FADE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3B116-20D1-4F64-9FCF-2206DF28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B5636-6C9A-41F0-9065-5173F252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8B6-4974-4032-856A-D20C6655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919-6939-4987-8A13-FA2CD348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25EB-1C90-4F2D-AFB3-9BB77756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5211-1DFA-4474-AA21-9C24BABF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785B-5F33-47FA-8C32-18B7F588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BAA6-BEB9-456F-A7D9-0E6A9CC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A0A4-8EE5-4504-85CC-4779BFD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A9E-D99A-4F0F-8115-E3DF25A6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27B-0687-43F9-8EF4-5BE45A6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84E-732B-424A-99CA-2F30584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2994-100D-4704-81A9-0D5BA8D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CFC1-A3A5-406E-A742-84D093A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FDED-92A4-432B-8D76-660407E0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D8F5-5817-4795-95D7-8089BB22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3F2-0423-481B-8C64-0BDB510C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7785-92D2-4584-8BAE-46A0BB24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34D1-39B1-499E-B688-312CEC6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BE68-2A29-4D98-9758-3E1CC84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3878-EB85-49A4-B0C6-177AE8A5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E6F4-321B-48A0-9E36-B615394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610-A402-44BE-B7E1-5D9B3EE1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884E-1A4F-4364-90E3-B88FE8E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AF94-D4F5-4B91-A53B-8A758AD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7A54-E4DA-4556-AD8B-92B07C5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3C3A-2540-43EF-A2C6-16384F6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DF24-314C-4657-A476-17058006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FA7A-3DC2-4F82-B4B8-4FA9780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CAE9-0AF8-4A00-A0A3-3E48F1C9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69FF-231C-4962-A9F0-7F6CC3B6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504C-B3D2-4BA9-9471-0F4DD9FB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33A3-DCA6-445E-A146-A710889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687-2B30-42C8-8265-ECE05D5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6B83F-1DE9-492F-AF82-D979D47B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8B6E-5D10-4F75-B7A6-28F2BC0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DCD7-0700-4709-9549-6198EE9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5918-4558-4D71-8922-450961F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51F6-D581-4A71-858A-2E06636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B1BD-6871-4FDC-873A-E7815B2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674D-010A-420A-AE0C-0B39F1F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A7B1-19F1-4329-89E4-7E869EF6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5CC71-921C-4161-B14E-44DCA231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6CD90-A777-43A6-B293-702590FD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583-11A2-42C2-9D5A-4DB65087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6110-7A19-4459-994A-0BF90093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4146-1607-43D3-B1A0-9C2F0169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7E0F7-F7F8-41B7-B842-FE13C361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9B29-7DD8-4780-B89B-AAA25B3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1186-3E86-449C-94F9-7EAAEBD0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057F-869C-48C9-A787-43264CB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F323-04A1-4B53-A539-49651FE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B5E2-52C1-473D-9D52-E248178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0BEC-C714-42C2-B4E7-B7550B63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850B-4B8B-4D25-A08F-1AC8D6B5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FD3-17E7-412A-BCE4-019AE5E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7BAD-1B1C-402E-B8E0-EA754890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A7DA-9EC5-4AF9-87C7-525F3436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58A5-8D39-48B0-9436-8955CA31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9D26-DF4F-4AF5-A4E0-D0369472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9C95-3D7A-4E24-81E1-1EA37E9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1AEE-39EA-4ED3-8E00-23214743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A2FC-FFEE-46B3-A90E-CF0D930B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882B5-50D5-4587-97A0-7BE4099F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AE91A-3150-4228-BFB3-99B1AD6E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D977-12DF-4516-AF2B-987720D3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AAE-30E4-4E9F-9C76-F99144D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B3711-6ABF-4930-9783-07197C5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F8617-1CDB-4908-A964-980F5C67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53DE-7753-42AD-8371-EFA5DAF8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8E534-C405-4441-AED4-3585833A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3062-4DF5-4559-8971-B06882E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0BF73-3064-4CED-B225-D97E38A3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C2F5-4AF4-455A-B823-EDFDA9C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1A48A-54C2-4F84-AFD5-4F425F5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9C58-9E0A-4690-BBD8-DC4DC15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DCE36-9768-4BB1-8E4A-20EED27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D1F-0EDE-40BB-8912-AAE1DE2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F47E-B0FF-45BB-83F6-7BF09E4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C130D-5D8F-44C0-8EE0-0340E133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28544-5179-4338-91D3-314246D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F7404-8AD0-4B64-9E3D-ED391F6E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CB1A-2E4C-42D1-B9B0-0686E9B5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7A82F-ACF6-4448-BD7D-C6C70097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307B-35A4-451E-8875-67EEFA2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78129-FF1A-4FFB-9BE1-48705C13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E6DA8-5CFF-4CE0-9F14-5D6C3C7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291F-E7D8-4F82-AF04-EF1C024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FA6-25D7-4C28-B89C-CC164C3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188F6-78C1-4462-9291-A099B70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36C5-8A08-4466-9485-63A40F2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8CF2-F054-46A3-AFE2-C09311F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EB192-15F5-41CA-8B80-6765582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1F8A-D615-4843-87C1-9988F69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74E7-8B3A-46D9-96D1-B363C3D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C3F47-C629-4F3B-9C72-5E1F35E9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57B9-7155-4E91-A078-E6B7113C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AA6BC-BCE8-411A-ABF4-0E032CA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4FE93-DC89-4F8C-BA31-6E048F71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559C9-54BC-4F79-8FD8-E0A5CE95329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C5B66-58C3-4859-B073-AE4EB8470E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50BC8-B305-4D2E-8F5A-73D542A461B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35936-DB8A-4E80-ACFC-C30319F4627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BFF62-DEE4-4761-B09B-90D494742D4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EE0FC-DCC2-4BA9-A29E-5D7CF0154F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428C1-B00F-4150-AEAB-E50A63BBC56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A3083-C26F-4747-ACB4-511A1D1E3E3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CBF7D-D99A-45E1-B09F-56681872C26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1511D-4773-4094-817D-9A76157C6FE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B8033-8BF9-4045-86B3-E9E1C4891D7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3DCD1-2070-4B91-B359-675C45ED999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0DF9C-3105-47B1-827D-E7CF4F504D5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64480-7C29-4994-ABCF-7C97707266B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88255-FC4B-47A1-B6D2-0CCFF0F29F4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8E206-16BB-4EF4-A7D1-1D927F25EA5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710A3-70DF-4600-8B69-218ECEE0F4A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A878B-5517-4D93-B19B-388A248C629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2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43329"/>
                </a:solidFill>
                <a:latin typeface="Franklin Gothic Book"/>
              </a:rPr>
              <a:t>Atomic Structure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ton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u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cleu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 Clou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tons – positive char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s – Negative char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utrons – No Charge (neutral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cleus – Contain Protons and Neu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 Cloud – Are outside the nucleus where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s may be foun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pic>
        <p:nvPicPr>
          <p:cNvPr id="406" name="Content Placeholder 3" descr=""/>
          <p:cNvPicPr/>
          <p:nvPr/>
        </p:nvPicPr>
        <p:blipFill>
          <a:blip r:embed="rId3"/>
          <a:stretch/>
        </p:blipFill>
        <p:spPr>
          <a:xfrm>
            <a:off x="298440" y="1511280"/>
            <a:ext cx="869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Macintosh HD:Users:student:Desktop:st_screencast.mov" descr=""/>
          <p:cNvPicPr/>
          <p:nvPr/>
        </p:nvPicPr>
        <p:blipFill>
          <a:blip r:embed="rId2"/>
          <a:stretch/>
        </p:blipFill>
        <p:spPr>
          <a:xfrm>
            <a:off x="1014480" y="1554120"/>
            <a:ext cx="726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mber of Prot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quals the Atomic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mber of Elec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quals Number of Prot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tons Equals Atomic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mber of Neu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quals Mass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nus Atomic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ss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   Atomic Numb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4e3b30"/>
                </a:solidFill>
                <a:uFillTx/>
                <a:latin typeface="Franklin Gothic Book"/>
              </a:rPr>
              <a:t>-----------------------------------------------------------------------------------------------------------------------------------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mber of Neutr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304920" y="1812960"/>
          <a:ext cx="8686800" cy="200664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ber of 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ber of 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17" name="Rectangle 6"/>
          <p:cNvSpPr/>
          <p:nvPr/>
        </p:nvSpPr>
        <p:spPr>
          <a:xfrm>
            <a:off x="685800" y="4398840"/>
            <a:ext cx="213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o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2.98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34340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8:39:39Z</dcterms:created>
  <dc:creator>College of Education</dc:creator>
  <dc:description/>
  <dc:language>en-US</dc:language>
  <cp:lastModifiedBy>College of Education</cp:lastModifiedBy>
  <dcterms:modified xsi:type="dcterms:W3CDTF">2009-07-25T19:04:06Z</dcterms:modified>
  <cp:revision>2</cp:revision>
  <dc:subject/>
  <dc:title>By Mrs. M. Wade</dc:title>
</cp:coreProperties>
</file>